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BEE9A03-1EA3-4C07-A1FC-474CE5FD75C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is the Role of the Teaching and Learning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alued person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from where he or she is to where he or s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nts to be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the exchange of ideas through collaborative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other opportunity for professional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ing teachers to reflect deeply about thei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arn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523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mproving Education is a World Wide Prior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2492280"/>
            <a:ext cx="6048360" cy="703440"/>
          </a:xfrm>
          <a:prstGeom prst="rect">
            <a:avLst/>
          </a:prstGeom>
          <a:solidFill>
            <a:srgbClr val="4c1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No child left 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6607"/>
          <a:stretch/>
        </p:blipFill>
        <p:spPr>
          <a:xfrm>
            <a:off x="3851280" y="3933720"/>
            <a:ext cx="514836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221000"/>
            <a:ext cx="3456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Every child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conference</cp:lastModifiedBy>
  <dcterms:modified xsi:type="dcterms:W3CDTF">2008-03-14T03:05:00Z</dcterms:modified>
  <cp:revision>33</cp:revision>
  <dc:subject/>
  <dc:title>Slide 1</dc:title>
</cp:coreProperties>
</file>